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B63-FC52-4632-97C5-427E1690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19A-7A01-4A8B-9268-3D7437A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BDE-FCF1-4A4E-A330-19ED2DFB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A74-2BEA-440F-B195-37C09C1C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4E7A-E38F-4E2D-93DD-3A31341E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D959-E194-4E98-B516-1CCFE15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89F0-EA53-4D0B-A8DD-E489105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8ED5-F42E-4356-8B4A-E41B1A07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4E4-C9E3-4208-AAF9-6BB53179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0FD6-EA78-4985-ABEA-51D059B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A111-8ACE-448F-A51D-06CD605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17C-EA09-4BDF-A4BB-BF9E6F17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3762-0B5D-4B70-AD33-E5FBAF3B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7D8-6684-4D46-8F43-39C0166E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6F2B-DED8-4D07-933E-20B6157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C89-BB6B-494D-9BBC-5C0A55FC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C20B-2FB9-43D3-B9B9-DA3E11F6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0CD3-D303-471C-8D54-5D6BAFA8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6A6E-1EF1-49B0-AD6E-B84E4D0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EABB-756F-45D8-A299-02FBA694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04B6-0411-403C-ACA1-DBD47AC1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1180-6F26-4DD5-AA6A-6CDA5F1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3D6-34C4-4B1F-A242-E51B9AC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3CAB-3F75-4AEC-ABD8-563C016A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30AD-5297-478E-9CFA-95B4A6F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2F0B-7582-438D-89FD-D286D92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5644-AB28-4882-9D3B-AFCE5D9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6E6E-C08E-4F63-BE9D-6D314C62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D870-9BEA-43AA-9F77-AF77A2D4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E4BB-5789-412C-88EF-C35ABF79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405C-B801-4B48-8E70-580D57F4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BD245-3448-4104-BE43-450CBD50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5730-6696-4513-B7E8-6834A98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788-BC30-424B-A3A2-2ECEEC70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8A76-2F4D-4BF8-B604-0912E65B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C5B2-0E05-43FA-9C2B-FE96C526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4D8F-3E25-4DD5-A49A-5B38290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6A299-821A-45BC-9E2B-2245D61F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41BD-0C97-491F-959D-7F78CB1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FD2E8-2E96-4DFE-9972-92C752F1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9BFE-B572-4304-A076-8341512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2664-B6DA-4DA1-A59C-B6A5208E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E710-3B1E-486D-BD1C-BFF34295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84F4-4D50-480D-BCFA-52F0C66B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66F-8EF9-4350-B065-30283017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B151-8ECF-426D-B90D-1B0278F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F8F4-7C64-4ECF-BB8A-9143EBC3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3A7C-035B-4B03-BC3E-D1E8DFEC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1131-F1EE-40D7-A1A3-F13D929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0E003-72DC-4D11-8BAE-17604757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DFA3-3B0D-4835-B792-4F22B3C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4B11-27FD-487F-A01A-B4469CB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6B8B-102E-4849-BEFD-F9A83A18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C56B-0A8F-4556-857F-1209945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790F-7015-4468-8CC7-047CB0E7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DA5-FAB6-48BF-82E7-20EABF41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BAD0-AAF3-4BE2-BFB8-67674C90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7021-C88C-4CA9-9C51-6A2BE4DE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EB682-7325-41ED-A823-275564B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D1BB-DFAE-4C24-97A0-531D2710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3A2A6-43EA-4321-9ED0-82CF921A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46F69-58B2-4590-85F0-DD5FC58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2366-7D44-488C-A0BB-9E02EEB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F53E-1F22-4902-AC0E-F17247C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8D41-30E1-426A-AE12-3E64613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2C440-ADC6-4CEC-AF28-7FCCFEF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43-DB97-4DDC-A23C-71FD2B3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2D8B-B027-406C-A659-5C9E3D0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267B-A7BC-4338-848B-10519542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D4B74-F11F-4801-BDE2-174ED355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0DFCE-4960-4504-B8F7-6F4DE7A8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2439-E2B1-4834-A869-A332BDC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5046-5CC6-482C-80AE-1640C9B0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D346-51F7-40EF-B217-1B2526B1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AB675-51CD-4954-BFBC-A9452B4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0A576-96A8-4A9C-9212-52E9A7F9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DDB0-438B-4956-8F10-4936548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BC3-683E-49B5-8B81-25F4E9D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A1FC7-1890-474B-AFC3-DB5FFAD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48398-E0A8-43FA-A084-D995035B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9588D-03BC-408D-B22C-F1BFAAA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8E02-2C87-4909-99E5-923A7D97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0B1F-AF34-4193-9867-6987A243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66A-CA69-4EC4-ADA4-FAAF18E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DBB3B-C4F2-44B4-89EF-FEDC8DD0F6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A1BE7-36B9-411B-9CBF-A9A50ECE47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03CE0-6E14-4F80-A08E-14BCA898E2F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B005D-7BB4-4603-AB8B-28DDE3D558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2A1D3-9EB4-40C5-8536-EFB18440C9AC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91B1A-F8AC-4BE3-BC82-6C50031C22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54087-5EC3-467B-953F-F0EA0C8767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4"/>
          <p:cNvSpPr/>
          <p:nvPr/>
        </p:nvSpPr>
        <p:spPr>
          <a:xfrm>
            <a:off x="2484360" y="158760"/>
            <a:ext cx="72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бюджетное дошкольное образовательное учреждение детский сад №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7183 Нижегородская область, г. Саров, ул. Московская, д. 26 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 info@ds4.edusarov.ru   тел.8(83130) 9237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фото 191"/>
          <p:cNvPicPr/>
          <p:nvPr/>
        </p:nvPicPr>
        <p:blipFill>
          <a:blip r:embed="rId1"/>
          <a:stretch/>
        </p:blipFill>
        <p:spPr>
          <a:xfrm>
            <a:off x="442800" y="1954080"/>
            <a:ext cx="4775400" cy="294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6" name="TextBox 7" descr=""/>
          <p:cNvPicPr/>
          <p:nvPr/>
        </p:nvPicPr>
        <p:blipFill>
          <a:blip r:embed="rId2"/>
          <a:stretch/>
        </p:blipFill>
        <p:spPr>
          <a:xfrm>
            <a:off x="5651640" y="1957320"/>
            <a:ext cx="6095880" cy="2900520"/>
          </a:xfrm>
          <a:prstGeom prst="rect">
            <a:avLst/>
          </a:prstGeom>
          <a:ln w="0">
            <a:noFill/>
          </a:ln>
        </p:spPr>
      </p:pic>
      <p:sp>
        <p:nvSpPr>
          <p:cNvPr id="307" name="TextBox 9"/>
          <p:cNvSpPr/>
          <p:nvPr/>
        </p:nvSpPr>
        <p:spPr>
          <a:xfrm>
            <a:off x="3048120" y="6329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2"/>
          <p:cNvSpPr/>
          <p:nvPr/>
        </p:nvSpPr>
        <p:spPr>
          <a:xfrm>
            <a:off x="2573280" y="220680"/>
            <a:ext cx="871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7978680" y="220680"/>
            <a:ext cx="13478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ая соединительная линия 14"/>
          <p:cNvSpPr/>
          <p:nvPr/>
        </p:nvSpPr>
        <p:spPr>
          <a:xfrm>
            <a:off x="6072120" y="220680"/>
            <a:ext cx="0" cy="5910120"/>
          </a:xfrm>
          <a:prstGeom prst="line">
            <a:avLst/>
          </a:prstGeom>
          <a:ln w="9360">
            <a:solidFill>
              <a:srgbClr val="bd58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270000" y="1317600"/>
            <a:ext cx="5476680" cy="39974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7" descr=""/>
          <p:cNvPicPr/>
          <p:nvPr/>
        </p:nvPicPr>
        <p:blipFill>
          <a:blip r:embed="rId2"/>
          <a:stretch/>
        </p:blipFill>
        <p:spPr>
          <a:xfrm>
            <a:off x="6543720" y="1281240"/>
            <a:ext cx="53784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Заголовок 1"/>
          <p:cNvSpPr/>
          <p:nvPr/>
        </p:nvSpPr>
        <p:spPr>
          <a:xfrm>
            <a:off x="1349280" y="2486160"/>
            <a:ext cx="100584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216000" y="15840"/>
            <a:ext cx="11660040" cy="6335640"/>
          </a:xfrm>
          <a:prstGeom prst="rect">
            <a:avLst/>
          </a:prstGeom>
          <a:solidFill>
            <a:srgbClr val="ffffff">
              <a:alpha val="83000"/>
            </a:srgbClr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90520" y="160200"/>
            <a:ext cx="11611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ПРОЕК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эффективного использования пространства кабинета педагога-психолога при создании творческих продуктов в мультстудии «Я творю мир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81040" y="851040"/>
          <a:ext cx="4881600" cy="2543040"/>
        </p:xfrm>
        <a:graphic>
          <a:graphicData uri="http://schemas.openxmlformats.org/drawingml/2006/table">
            <a:tbl>
              <a:tblPr/>
              <a:tblGrid>
                <a:gridCol w="4881600"/>
              </a:tblGrid>
              <a:tr h="22536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ВЛЕЧЕННЫЕ ЛИЦА И РАМКИ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768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азчики процесс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Администрация МБДОУ «Детский сад №4», педаг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 прое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кабинет педагога-психол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лец процес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заведующий Е.И. Толмач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и прое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А.А. Ромашкина  - педагог-психолог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а прое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А.А. Ромашкина – педагог-психолог,  Е.П. Трошина – воспитатель, М.Н. Лощинина – старший воспитатель, Е.И. Толмачева – заведующ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оцесса - 01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процесса  -  04.10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638680" y="849240"/>
          <a:ext cx="5943600" cy="299736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21204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СНОВАНИЕ ВЫБ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53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ой рис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дополнительные затраты времени педагога на подготовку к творческой деятельности по созданию мультфиль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ет опорных схем для наглядного моделирования идеи будущего мультфиль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теря времени на распределение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жидание задания и материа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тсутствует система визуал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22360" y="3589200"/>
          <a:ext cx="4881600" cy="2711520"/>
        </p:xfrm>
        <a:graphic>
          <a:graphicData uri="http://schemas.openxmlformats.org/drawingml/2006/table">
            <a:tbl>
              <a:tblPr/>
              <a:tblGrid>
                <a:gridCol w="2841480"/>
                <a:gridCol w="1060560"/>
                <a:gridCol w="979560"/>
              </a:tblGrid>
              <a:tr h="308520">
                <a:tc gridSpan="3"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ЦЕЛИ И ПЛАНОВЫЙ ЭФФ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времени подготовки к творческой деятельности по созданию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минут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ину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кращение времени уборки материалов и оборудования после проведения  творческой деятельности по созданию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5632560" y="3949560"/>
          <a:ext cx="5956200" cy="2318040"/>
        </p:xfrm>
        <a:graphic>
          <a:graphicData uri="http://schemas.openxmlformats.org/drawingml/2006/table">
            <a:tbl>
              <a:tblPr/>
              <a:tblGrid>
                <a:gridCol w="5956200"/>
              </a:tblGrid>
              <a:tr h="21204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ЛЮЧЕВЫЕ СОБЫТИЯ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00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 проекта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определение целевого состояния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2 – 24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арты текущего состояния –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2 - 10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арты целевого состояния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6.2022 - 24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улучшения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.2022 - 31.08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о защите подходов внедрения – 31.08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результатов и закрытие проектов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22 - 30.09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ющее совещание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10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4048200" y="287280"/>
            <a:ext cx="44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Е СОСТОЯНИЕ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80880" y="4059360"/>
          <a:ext cx="11533320" cy="2286000"/>
        </p:xfrm>
        <a:graphic>
          <a:graphicData uri="http://schemas.openxmlformats.org/drawingml/2006/table">
            <a:tbl>
              <a:tblPr/>
              <a:tblGrid>
                <a:gridCol w="2603520"/>
                <a:gridCol w="892980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я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блемы и рис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ой риск – дополнительные затраты времени педагога на подготовку к творческой деятельности по созданию мультфиль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ет опорных схем для наглядного моделирования идеи будущего мультфиль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теря времени на распределение професс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жидание задания и материа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тсутствует система визу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6" name="Рисунок 5" descr=""/>
          <p:cNvPicPr/>
          <p:nvPr/>
        </p:nvPicPr>
        <p:blipFill>
          <a:blip r:embed="rId1"/>
          <a:stretch/>
        </p:blipFill>
        <p:spPr>
          <a:xfrm>
            <a:off x="209520" y="1136520"/>
            <a:ext cx="3838680" cy="28036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8" descr=""/>
          <p:cNvPicPr/>
          <p:nvPr/>
        </p:nvPicPr>
        <p:blipFill>
          <a:blip r:embed="rId2"/>
          <a:stretch/>
        </p:blipFill>
        <p:spPr>
          <a:xfrm>
            <a:off x="8143920" y="1060560"/>
            <a:ext cx="3838680" cy="287316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3"/>
          <a:stretch/>
        </p:blipFill>
        <p:spPr>
          <a:xfrm>
            <a:off x="4176720" y="1060560"/>
            <a:ext cx="3838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4"/>
          <p:cNvSpPr/>
          <p:nvPr/>
        </p:nvSpPr>
        <p:spPr>
          <a:xfrm>
            <a:off x="7375680" y="1863720"/>
            <a:ext cx="1101600" cy="784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4041720" y="81000"/>
            <a:ext cx="40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а текущего 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41200" y="450720"/>
          <a:ext cx="4943520" cy="973440"/>
        </p:xfrm>
        <a:graphic>
          <a:graphicData uri="http://schemas.openxmlformats.org/drawingml/2006/table">
            <a:tbl>
              <a:tblPr/>
              <a:tblGrid>
                <a:gridCol w="4943520"/>
              </a:tblGrid>
              <a:tr h="12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ее состояние:                           Ц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П = 32 минуты                            ВПП = 15 минут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борка (сортировка) = 24 минуты            = 1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04760" y="1884240"/>
          <a:ext cx="1204920" cy="654120"/>
        </p:xfrm>
        <a:graphic>
          <a:graphicData uri="http://schemas.openxmlformats.org/drawingml/2006/table">
            <a:tbl>
              <a:tblPr/>
              <a:tblGrid>
                <a:gridCol w="1204920"/>
              </a:tblGrid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идеи будущего мультфиль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203480" y="3527280"/>
          <a:ext cx="3878280" cy="2955960"/>
        </p:xfrm>
        <a:graphic>
          <a:graphicData uri="http://schemas.openxmlformats.org/drawingml/2006/table">
            <a:tbl>
              <a:tblPr/>
              <a:tblGrid>
                <a:gridCol w="3878280"/>
              </a:tblGrid>
              <a:tr h="295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опорных схем для наглядного моделирования идеи будущего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еря времени на распределение професс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задания и материа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лишнее перемещ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925640" y="1503360"/>
          <a:ext cx="1363680" cy="1357200"/>
        </p:xfrm>
        <a:graphic>
          <a:graphicData uri="http://schemas.openxmlformats.org/drawingml/2006/table">
            <a:tbl>
              <a:tblPr/>
              <a:tblGrid>
                <a:gridCol w="1363680"/>
              </a:tblGrid>
              <a:tr h="136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детей на профессии (сценарист, аниматор, декоратор, операто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5" name="Стрелка: вправо 11"/>
          <p:cNvSpPr/>
          <p:nvPr/>
        </p:nvSpPr>
        <p:spPr>
          <a:xfrm>
            <a:off x="1357200" y="2120760"/>
            <a:ext cx="544680" cy="27972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Стрелка: вправо 12"/>
          <p:cNvSpPr/>
          <p:nvPr/>
        </p:nvSpPr>
        <p:spPr>
          <a:xfrm>
            <a:off x="3308400" y="2081160"/>
            <a:ext cx="666720" cy="30636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Стрелка: вправо 15"/>
          <p:cNvSpPr/>
          <p:nvPr/>
        </p:nvSpPr>
        <p:spPr>
          <a:xfrm>
            <a:off x="5091120" y="2122560"/>
            <a:ext cx="627120" cy="276120"/>
          </a:xfrm>
          <a:prstGeom prst="rightArrow">
            <a:avLst>
              <a:gd name="adj1" fmla="val 50000"/>
              <a:gd name="adj2" fmla="val 49808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030560" y="1855800"/>
          <a:ext cx="1125720" cy="698400"/>
        </p:xfrm>
        <a:graphic>
          <a:graphicData uri="http://schemas.openxmlformats.org/drawingml/2006/table">
            <a:tbl>
              <a:tblPr/>
              <a:tblGrid>
                <a:gridCol w="1125720"/>
              </a:tblGrid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иск  и набор необходимого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9" name="Звезда: 16 точек 19"/>
          <p:cNvSpPr/>
          <p:nvPr/>
        </p:nvSpPr>
        <p:spPr>
          <a:xfrm>
            <a:off x="2276640" y="2971800"/>
            <a:ext cx="649080" cy="585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олилиния: фигура 22"/>
          <p:cNvSpPr/>
          <p:nvPr/>
        </p:nvSpPr>
        <p:spPr>
          <a:xfrm>
            <a:off x="1370160" y="1635120"/>
            <a:ext cx="465120" cy="488880"/>
          </a:xfrm>
          <a:custGeom>
            <a:avLst/>
            <a:gdLst/>
            <a:ahLst/>
            <a:rect l="l" t="t" r="r" b="b"/>
            <a:pathLst>
              <a:path w="897924" h="677068">
                <a:moveTo>
                  <a:pt x="0" y="561295"/>
                </a:moveTo>
                <a:cubicBezTo>
                  <a:pt x="21281" y="642987"/>
                  <a:pt x="42562" y="724679"/>
                  <a:pt x="98854" y="643674"/>
                </a:cubicBezTo>
                <a:cubicBezTo>
                  <a:pt x="155146" y="562669"/>
                  <a:pt x="251254" y="171371"/>
                  <a:pt x="337751" y="75263"/>
                </a:cubicBezTo>
                <a:cubicBezTo>
                  <a:pt x="424248" y="-20845"/>
                  <a:pt x="549189" y="-26337"/>
                  <a:pt x="617838" y="67025"/>
                </a:cubicBezTo>
                <a:cubicBezTo>
                  <a:pt x="686487" y="160387"/>
                  <a:pt x="702962" y="562668"/>
                  <a:pt x="749643" y="635436"/>
                </a:cubicBezTo>
                <a:cubicBezTo>
                  <a:pt x="796324" y="708204"/>
                  <a:pt x="847124" y="605917"/>
                  <a:pt x="897924" y="503630"/>
                </a:cubicBezTo>
              </a:path>
            </a:pathLst>
          </a:cu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олилиния: фигура 23"/>
          <p:cNvSpPr/>
          <p:nvPr/>
        </p:nvSpPr>
        <p:spPr>
          <a:xfrm>
            <a:off x="3460680" y="1646280"/>
            <a:ext cx="414360" cy="457200"/>
          </a:xfrm>
          <a:custGeom>
            <a:avLst/>
            <a:gdLst/>
            <a:ahLst/>
            <a:rect l="l" t="t" r="r" b="b"/>
            <a:pathLst>
              <a:path w="897924" h="677068">
                <a:moveTo>
                  <a:pt x="0" y="561295"/>
                </a:moveTo>
                <a:cubicBezTo>
                  <a:pt x="21281" y="642987"/>
                  <a:pt x="42562" y="724679"/>
                  <a:pt x="98854" y="643674"/>
                </a:cubicBezTo>
                <a:cubicBezTo>
                  <a:pt x="155146" y="562669"/>
                  <a:pt x="251254" y="171371"/>
                  <a:pt x="337751" y="75263"/>
                </a:cubicBezTo>
                <a:cubicBezTo>
                  <a:pt x="424248" y="-20845"/>
                  <a:pt x="549189" y="-26337"/>
                  <a:pt x="617838" y="67025"/>
                </a:cubicBezTo>
                <a:cubicBezTo>
                  <a:pt x="686487" y="160387"/>
                  <a:pt x="702962" y="562668"/>
                  <a:pt x="749643" y="635436"/>
                </a:cubicBezTo>
                <a:cubicBezTo>
                  <a:pt x="796324" y="708204"/>
                  <a:pt x="847124" y="605917"/>
                  <a:pt x="897924" y="503630"/>
                </a:cubicBezTo>
              </a:path>
            </a:pathLst>
          </a:cu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184720" y="3627360"/>
          <a:ext cx="6675480" cy="2135160"/>
        </p:xfrm>
        <a:graphic>
          <a:graphicData uri="http://schemas.openxmlformats.org/drawingml/2006/table">
            <a:tbl>
              <a:tblPr/>
              <a:tblGrid>
                <a:gridCol w="2673360"/>
                <a:gridCol w="1876320"/>
                <a:gridCol w="212580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енная пр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 и воспитанники затрачивают много времени на поиск необходимого оборудования, подготовку к творческому процессу создания мультфильма  и  уборку материала и оборудования пос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 эффективной системы хранения и визуализации для организац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 для создания творческих продуктов в мультсту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676840" y="1798560"/>
          <a:ext cx="1116000" cy="835200"/>
        </p:xfrm>
        <a:graphic>
          <a:graphicData uri="http://schemas.openxmlformats.org/drawingml/2006/table">
            <a:tbl>
              <a:tblPr/>
              <a:tblGrid>
                <a:gridCol w="1116000"/>
              </a:tblGrid>
              <a:tr h="8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й процесс создания мультфиль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Звезда: 16 точек 19"/>
          <p:cNvSpPr/>
          <p:nvPr/>
        </p:nvSpPr>
        <p:spPr>
          <a:xfrm>
            <a:off x="1290600" y="2487600"/>
            <a:ext cx="649440" cy="5875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Звезда: 16 точек 19"/>
          <p:cNvSpPr/>
          <p:nvPr/>
        </p:nvSpPr>
        <p:spPr>
          <a:xfrm>
            <a:off x="3294000" y="2441520"/>
            <a:ext cx="649440" cy="585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олилиния: фигура 23"/>
          <p:cNvSpPr/>
          <p:nvPr/>
        </p:nvSpPr>
        <p:spPr>
          <a:xfrm>
            <a:off x="5237280" y="1611360"/>
            <a:ext cx="414360" cy="457200"/>
          </a:xfrm>
          <a:custGeom>
            <a:avLst/>
            <a:gdLst/>
            <a:ahLst/>
            <a:rect l="l" t="t" r="r" b="b"/>
            <a:pathLst>
              <a:path w="897924" h="677068">
                <a:moveTo>
                  <a:pt x="0" y="561295"/>
                </a:moveTo>
                <a:cubicBezTo>
                  <a:pt x="21281" y="642987"/>
                  <a:pt x="42562" y="724679"/>
                  <a:pt x="98854" y="643674"/>
                </a:cubicBezTo>
                <a:cubicBezTo>
                  <a:pt x="155146" y="562669"/>
                  <a:pt x="251254" y="171371"/>
                  <a:pt x="337751" y="75263"/>
                </a:cubicBezTo>
                <a:cubicBezTo>
                  <a:pt x="424248" y="-20845"/>
                  <a:pt x="549189" y="-26337"/>
                  <a:pt x="617838" y="67025"/>
                </a:cubicBezTo>
                <a:cubicBezTo>
                  <a:pt x="686487" y="160387"/>
                  <a:pt x="702962" y="562668"/>
                  <a:pt x="749643" y="635436"/>
                </a:cubicBezTo>
                <a:cubicBezTo>
                  <a:pt x="796324" y="708204"/>
                  <a:pt x="847124" y="605917"/>
                  <a:pt x="897924" y="503630"/>
                </a:cubicBezTo>
              </a:path>
            </a:pathLst>
          </a:cu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Звезда: 16 точек 19"/>
          <p:cNvSpPr/>
          <p:nvPr/>
        </p:nvSpPr>
        <p:spPr>
          <a:xfrm>
            <a:off x="528480" y="4019400"/>
            <a:ext cx="649440" cy="5860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6080"/>
              <a:gd name="textAreaBottom" fmla="*/ 452520 h 5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Звезда: 16 точек 19"/>
          <p:cNvSpPr/>
          <p:nvPr/>
        </p:nvSpPr>
        <p:spPr>
          <a:xfrm>
            <a:off x="503280" y="3446640"/>
            <a:ext cx="649080" cy="585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Звезда: 16 точек 19"/>
          <p:cNvSpPr/>
          <p:nvPr/>
        </p:nvSpPr>
        <p:spPr>
          <a:xfrm>
            <a:off x="528480" y="4648320"/>
            <a:ext cx="649440" cy="585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1"/>
          <p:cNvSpPr/>
          <p:nvPr/>
        </p:nvSpPr>
        <p:spPr>
          <a:xfrm>
            <a:off x="135000" y="2658960"/>
            <a:ext cx="1063440" cy="15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2"/>
          <p:cNvSpPr/>
          <p:nvPr/>
        </p:nvSpPr>
        <p:spPr>
          <a:xfrm>
            <a:off x="2055960" y="2892600"/>
            <a:ext cx="1063440" cy="15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54"/>
          <p:cNvSpPr/>
          <p:nvPr/>
        </p:nvSpPr>
        <p:spPr>
          <a:xfrm>
            <a:off x="4057560" y="2612880"/>
            <a:ext cx="1063800" cy="15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55"/>
          <p:cNvSpPr/>
          <p:nvPr/>
        </p:nvSpPr>
        <p:spPr>
          <a:xfrm>
            <a:off x="7375680" y="2768760"/>
            <a:ext cx="106344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ая соединительная линия 7"/>
          <p:cNvSpPr/>
          <p:nvPr/>
        </p:nvSpPr>
        <p:spPr>
          <a:xfrm>
            <a:off x="5676840" y="1531800"/>
            <a:ext cx="0" cy="1467000"/>
          </a:xfrm>
          <a:prstGeom prst="line">
            <a:avLst/>
          </a:prstGeom>
          <a:ln w="1260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 flipH="1">
            <a:off x="6759360" y="1503360"/>
            <a:ext cx="12600" cy="1471680"/>
          </a:xfrm>
          <a:prstGeom prst="line">
            <a:avLst/>
          </a:prstGeom>
          <a:ln w="1260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872400" y="1660680"/>
            <a:ext cx="426960" cy="469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8469360" y="2136600"/>
            <a:ext cx="725400" cy="317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3"/>
          <a:stretch/>
        </p:blipFill>
        <p:spPr>
          <a:xfrm>
            <a:off x="8618400" y="1611360"/>
            <a:ext cx="427320" cy="4698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6"/>
          <p:cNvSpPr/>
          <p:nvPr/>
        </p:nvSpPr>
        <p:spPr>
          <a:xfrm>
            <a:off x="9193320" y="1795320"/>
            <a:ext cx="1095120" cy="866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я на ме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4"/>
          <a:stretch/>
        </p:blipFill>
        <p:spPr>
          <a:xfrm>
            <a:off x="10275840" y="2120760"/>
            <a:ext cx="649440" cy="31752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7"/>
          <p:cNvSpPr/>
          <p:nvPr/>
        </p:nvSpPr>
        <p:spPr>
          <a:xfrm>
            <a:off x="10901520" y="1795320"/>
            <a:ext cx="1217520" cy="817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тогового продукта (мультфиль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43"/>
          <p:cNvSpPr/>
          <p:nvPr/>
        </p:nvSpPr>
        <p:spPr>
          <a:xfrm>
            <a:off x="10993320" y="2730600"/>
            <a:ext cx="106380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21"/>
          <p:cNvSpPr/>
          <p:nvPr/>
        </p:nvSpPr>
        <p:spPr>
          <a:xfrm>
            <a:off x="9217080" y="2738520"/>
            <a:ext cx="1098360" cy="179280"/>
          </a:xfrm>
          <a:prstGeom prst="rect">
            <a:avLst/>
          </a:prstGeom>
          <a:solidFill>
            <a:srgbClr val="ffffff"/>
          </a:solidFill>
          <a:ln w="15840">
            <a:solidFill>
              <a:srgbClr val="6f7b63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5"/>
          <a:stretch/>
        </p:blipFill>
        <p:spPr>
          <a:xfrm>
            <a:off x="10364760" y="1598760"/>
            <a:ext cx="426960" cy="469800"/>
          </a:xfrm>
          <a:prstGeom prst="rect">
            <a:avLst/>
          </a:prstGeom>
          <a:ln w="0">
            <a:noFill/>
          </a:ln>
        </p:spPr>
      </p:pic>
      <p:sp>
        <p:nvSpPr>
          <p:cNvPr id="355" name="Звезда: 16 точек 19"/>
          <p:cNvSpPr/>
          <p:nvPr/>
        </p:nvSpPr>
        <p:spPr>
          <a:xfrm>
            <a:off x="523800" y="5302080"/>
            <a:ext cx="649440" cy="5860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6080"/>
              <a:gd name="textAreaBottom" fmla="*/ 452520 h 5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3" descr=""/>
          <p:cNvPicPr/>
          <p:nvPr/>
        </p:nvPicPr>
        <p:blipFill>
          <a:blip r:embed="rId6"/>
          <a:stretch/>
        </p:blipFill>
        <p:spPr>
          <a:xfrm>
            <a:off x="8528040" y="2433600"/>
            <a:ext cx="6890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Стрелка: вправо 27"/>
          <p:cNvSpPr/>
          <p:nvPr/>
        </p:nvSpPr>
        <p:spPr>
          <a:xfrm>
            <a:off x="6777000" y="2158920"/>
            <a:ext cx="627120" cy="2746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Звезда: 16 точек 19"/>
          <p:cNvSpPr/>
          <p:nvPr/>
        </p:nvSpPr>
        <p:spPr>
          <a:xfrm>
            <a:off x="9487080" y="2946240"/>
            <a:ext cx="649080" cy="58608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3560 h 586080"/>
              <a:gd name="textAreaBottom" fmla="*/ 452520 h 5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Звезда: 16 точек 19"/>
          <p:cNvSpPr/>
          <p:nvPr/>
        </p:nvSpPr>
        <p:spPr>
          <a:xfrm>
            <a:off x="523800" y="5950080"/>
            <a:ext cx="649440" cy="585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Рисунок 31" descr=""/>
          <p:cNvPicPr/>
          <p:nvPr/>
        </p:nvPicPr>
        <p:blipFill>
          <a:blip r:embed="rId7"/>
          <a:stretch/>
        </p:blipFill>
        <p:spPr>
          <a:xfrm>
            <a:off x="5060880" y="2387520"/>
            <a:ext cx="6890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2"/>
          <p:cNvSpPr/>
          <p:nvPr/>
        </p:nvSpPr>
        <p:spPr>
          <a:xfrm>
            <a:off x="4141800" y="92160"/>
            <a:ext cx="40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а целевого 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809640" y="2058840"/>
          <a:ext cx="1195200" cy="976320"/>
        </p:xfrm>
        <a:graphic>
          <a:graphicData uri="http://schemas.openxmlformats.org/drawingml/2006/table">
            <a:tbl>
              <a:tblPr/>
              <a:tblGrid>
                <a:gridCol w="1195200"/>
              </a:tblGrid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идеи будущего мультфиль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905040" y="3675240"/>
          <a:ext cx="3877920" cy="2868480"/>
        </p:xfrm>
        <a:graphic>
          <a:graphicData uri="http://schemas.openxmlformats.org/drawingml/2006/table">
            <a:tbl>
              <a:tblPr/>
              <a:tblGrid>
                <a:gridCol w="3877920"/>
              </a:tblGrid>
              <a:tr h="286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а картотека опорных схем наглядного моделирования идей будущего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а доска выб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контейнеры находятся в свободном доступ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а удобная система визу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ключение излишних пере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732040" y="2049480"/>
          <a:ext cx="1649520" cy="977760"/>
        </p:xfrm>
        <a:graphic>
          <a:graphicData uri="http://schemas.openxmlformats.org/drawingml/2006/table">
            <a:tbl>
              <a:tblPr/>
              <a:tblGrid>
                <a:gridCol w="1649520"/>
              </a:tblGrid>
              <a:tr h="97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детей на профессии (сценарист, аниматор, декоратор, операто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398840" y="2152800"/>
          <a:ext cx="1379520" cy="725400"/>
        </p:xfrm>
        <a:graphic>
          <a:graphicData uri="http://schemas.openxmlformats.org/drawingml/2006/table">
            <a:tbl>
              <a:tblPr/>
              <a:tblGrid>
                <a:gridCol w="1379520"/>
              </a:tblGrid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иск  и набор необходимого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6" name="Звезда: 16 точек 19"/>
          <p:cNvSpPr/>
          <p:nvPr/>
        </p:nvSpPr>
        <p:spPr>
          <a:xfrm>
            <a:off x="2070000" y="2629080"/>
            <a:ext cx="650880" cy="463320"/>
          </a:xfrm>
          <a:custGeom>
            <a:avLst/>
            <a:gdLst>
              <a:gd name="textAreaLeft" fmla="*/ 148320 w 650880"/>
              <a:gd name="textAreaRight" fmla="*/ 502560 w 650880"/>
              <a:gd name="textAreaTop" fmla="*/ 105840 h 463320"/>
              <a:gd name="textAreaBottom" fmla="*/ 3574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Звезда: 16 точек 19"/>
          <p:cNvSpPr/>
          <p:nvPr/>
        </p:nvSpPr>
        <p:spPr>
          <a:xfrm>
            <a:off x="266760" y="4211640"/>
            <a:ext cx="649080" cy="446040"/>
          </a:xfrm>
          <a:custGeom>
            <a:avLst/>
            <a:gdLst>
              <a:gd name="textAreaLeft" fmla="*/ 147960 w 649080"/>
              <a:gd name="textAreaRight" fmla="*/ 501120 w 649080"/>
              <a:gd name="textAreaTop" fmla="*/ 101880 h 446040"/>
              <a:gd name="textAreaBottom" fmla="*/ 34416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Звезда: 16 точек 19"/>
          <p:cNvSpPr/>
          <p:nvPr/>
        </p:nvSpPr>
        <p:spPr>
          <a:xfrm>
            <a:off x="277920" y="3656160"/>
            <a:ext cx="612720" cy="458640"/>
          </a:xfrm>
          <a:custGeom>
            <a:avLst/>
            <a:gdLst>
              <a:gd name="textAreaLeft" fmla="*/ 139680 w 612720"/>
              <a:gd name="textAreaRight" fmla="*/ 473040 w 612720"/>
              <a:gd name="textAreaTop" fmla="*/ 104760 h 458640"/>
              <a:gd name="textAreaBottom" fmla="*/ 353880 h 45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угольник 54"/>
          <p:cNvSpPr/>
          <p:nvPr/>
        </p:nvSpPr>
        <p:spPr>
          <a:xfrm>
            <a:off x="2917800" y="3086280"/>
            <a:ext cx="106380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55"/>
          <p:cNvSpPr/>
          <p:nvPr/>
        </p:nvSpPr>
        <p:spPr>
          <a:xfrm>
            <a:off x="8318520" y="2963880"/>
            <a:ext cx="106344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Звезда: 16 точек 19"/>
          <p:cNvSpPr/>
          <p:nvPr/>
        </p:nvSpPr>
        <p:spPr>
          <a:xfrm>
            <a:off x="2786040" y="1593720"/>
            <a:ext cx="531720" cy="4636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05840 h 463680"/>
              <a:gd name="textAreaBottom" fmla="*/ 357840 h 46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6" descr=""/>
          <p:cNvPicPr/>
          <p:nvPr/>
        </p:nvPicPr>
        <p:blipFill>
          <a:blip r:embed="rId1"/>
          <a:stretch/>
        </p:blipFill>
        <p:spPr>
          <a:xfrm>
            <a:off x="5791320" y="1776240"/>
            <a:ext cx="12600" cy="14702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10"/>
          <p:cNvSpPr/>
          <p:nvPr/>
        </p:nvSpPr>
        <p:spPr>
          <a:xfrm>
            <a:off x="5821200" y="2084400"/>
            <a:ext cx="1227240" cy="816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ий процесс создания мультфил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Звезда: 16 точек 19"/>
          <p:cNvSpPr/>
          <p:nvPr/>
        </p:nvSpPr>
        <p:spPr>
          <a:xfrm>
            <a:off x="7994520" y="1609560"/>
            <a:ext cx="649440" cy="462240"/>
          </a:xfrm>
          <a:custGeom>
            <a:avLst/>
            <a:gdLst>
              <a:gd name="textAreaLeft" fmla="*/ 148320 w 649440"/>
              <a:gd name="textAreaRight" fmla="*/ 501120 w 649440"/>
              <a:gd name="textAreaTop" fmla="*/ 105480 h 462240"/>
              <a:gd name="textAreaBottom" fmla="*/ 356760 h 4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7062840" y="1793880"/>
            <a:ext cx="12600" cy="1469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3"/>
          <a:stretch/>
        </p:blipFill>
        <p:spPr>
          <a:xfrm>
            <a:off x="7101000" y="2247840"/>
            <a:ext cx="633240" cy="365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4"/>
          <a:stretch/>
        </p:blipFill>
        <p:spPr>
          <a:xfrm>
            <a:off x="7126200" y="1852560"/>
            <a:ext cx="476280" cy="5000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2"/>
          <p:cNvSpPr/>
          <p:nvPr/>
        </p:nvSpPr>
        <p:spPr>
          <a:xfrm>
            <a:off x="7734240" y="2075040"/>
            <a:ext cx="1098720" cy="815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13"/>
          <p:cNvSpPr/>
          <p:nvPr/>
        </p:nvSpPr>
        <p:spPr>
          <a:xfrm>
            <a:off x="8850240" y="2075040"/>
            <a:ext cx="1174680" cy="815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я на ме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9" descr=""/>
          <p:cNvPicPr/>
          <p:nvPr/>
        </p:nvPicPr>
        <p:blipFill>
          <a:blip r:embed="rId5"/>
          <a:stretch/>
        </p:blipFill>
        <p:spPr>
          <a:xfrm>
            <a:off x="5429160" y="2941560"/>
            <a:ext cx="689040" cy="487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6"/>
          <a:stretch/>
        </p:blipFill>
        <p:spPr>
          <a:xfrm>
            <a:off x="10045800" y="2263680"/>
            <a:ext cx="633240" cy="365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7"/>
          <a:stretch/>
        </p:blipFill>
        <p:spPr>
          <a:xfrm>
            <a:off x="10040760" y="1816200"/>
            <a:ext cx="47628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4"/>
          <p:cNvSpPr/>
          <p:nvPr/>
        </p:nvSpPr>
        <p:spPr>
          <a:xfrm>
            <a:off x="10652040" y="1959120"/>
            <a:ext cx="1311480" cy="90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тогового продукта (мультфиль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10798200" y="2965320"/>
            <a:ext cx="1062000" cy="1605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8"/>
          <a:stretch/>
        </p:blipFill>
        <p:spPr>
          <a:xfrm>
            <a:off x="3763800" y="3056040"/>
            <a:ext cx="682920" cy="487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"/>
          <p:cNvPicPr/>
          <p:nvPr/>
        </p:nvPicPr>
        <p:blipFill>
          <a:blip r:embed="rId9"/>
          <a:stretch/>
        </p:blipFill>
        <p:spPr>
          <a:xfrm>
            <a:off x="266760" y="4734000"/>
            <a:ext cx="682560" cy="487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/>
          <p:cNvPicPr/>
          <p:nvPr/>
        </p:nvPicPr>
        <p:blipFill>
          <a:blip r:embed="rId10"/>
          <a:stretch/>
        </p:blipFill>
        <p:spPr>
          <a:xfrm>
            <a:off x="263520" y="5297400"/>
            <a:ext cx="68904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371520" y="541440"/>
          <a:ext cx="4944960" cy="973080"/>
        </p:xfrm>
        <a:graphic>
          <a:graphicData uri="http://schemas.openxmlformats.org/drawingml/2006/table">
            <a:tbl>
              <a:tblPr/>
              <a:tblGrid>
                <a:gridCol w="4944960"/>
              </a:tblGrid>
              <a:tr h="12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ее состояние:                           Ц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П = 32 минуты                            ВПП = 15 минут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борка (сортировка) = 24 минуты           = 1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89" name="Picture 7" descr=""/>
          <p:cNvPicPr/>
          <p:nvPr/>
        </p:nvPicPr>
        <p:blipFill>
          <a:blip r:embed="rId11"/>
          <a:stretch/>
        </p:blipFill>
        <p:spPr>
          <a:xfrm>
            <a:off x="2043000" y="2273400"/>
            <a:ext cx="633600" cy="365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12"/>
          <a:stretch/>
        </p:blipFill>
        <p:spPr>
          <a:xfrm>
            <a:off x="2092320" y="1812960"/>
            <a:ext cx="476280" cy="50004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839880" y="3124080"/>
            <a:ext cx="1063440" cy="15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4546440" y="2932200"/>
            <a:ext cx="106380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Звезда: 16 точек 19"/>
          <p:cNvSpPr/>
          <p:nvPr/>
        </p:nvSpPr>
        <p:spPr>
          <a:xfrm>
            <a:off x="8842320" y="1601640"/>
            <a:ext cx="649440" cy="4636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05840 h 463680"/>
              <a:gd name="textAreaBottom" fmla="*/ 357840 h 46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Звезда: 16 точек 19"/>
          <p:cNvSpPr/>
          <p:nvPr/>
        </p:nvSpPr>
        <p:spPr>
          <a:xfrm>
            <a:off x="266760" y="5834160"/>
            <a:ext cx="649080" cy="4633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05840 h 463320"/>
              <a:gd name="textAreaBottom" fmla="*/ 3574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184720" y="3627360"/>
          <a:ext cx="6675480" cy="2135160"/>
        </p:xfrm>
        <a:graphic>
          <a:graphicData uri="http://schemas.openxmlformats.org/drawingml/2006/table">
            <a:tbl>
              <a:tblPr/>
              <a:tblGrid>
                <a:gridCol w="2673360"/>
                <a:gridCol w="1876320"/>
                <a:gridCol w="212580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енная пр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 и воспитанники затрачивают много времени на поиск необходимого оборудования, подготовку к творческому процессу создания мультфильма  и  уборку материала и оборудования пос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 эффективной системы хранения и визуализации для организац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 для создания творческих продуктов в мультсту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1430280" y="123840"/>
            <a:ext cx="9551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МЕРОПРИЯТИЙ ПО ДОСТИЖЕНИЮ ЦЕЛЕВЫХ ПОКАЗАТЕЛЕЙ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47760" y="498600"/>
          <a:ext cx="11496600" cy="6359400"/>
        </p:xfrm>
        <a:graphic>
          <a:graphicData uri="http://schemas.openxmlformats.org/drawingml/2006/table">
            <a:tbl>
              <a:tblPr/>
              <a:tblGrid>
                <a:gridCol w="658800"/>
                <a:gridCol w="2585880"/>
                <a:gridCol w="2741760"/>
                <a:gridCol w="3141720"/>
                <a:gridCol w="2368440"/>
              </a:tblGrid>
              <a:tr h="5209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</a:tr>
              <a:tr h="1309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ка  контейнеров, сбор необходимого количества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.22 – 11.07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онтейнеров  для систематизации оборудования, наличие необходимого количества обору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</a:tr>
              <a:tr h="977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места для хранения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7.22 – 8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о место для хранения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</a:tr>
              <a:tr h="7981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системы хранения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7.22 – 8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ая система хранения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</a:tr>
              <a:tr h="12229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и сортировка, карточек, схем по направлению деятельности (сценарист, декоратор, анима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8.22 – 18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а удобная система организации карточек, схем по направлению деятельности (сценарист, декоратор, анима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</a:tr>
              <a:tr h="552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стемы визуализации и навиг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8.22 – 24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а система визуализации и навиг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</a:tr>
              <a:tr h="977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доски выбора, визуальных обозначений профессий (головные уборы с названием професс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8.22 – 30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а доска выбора, визуальные обозначения профессий (головные уборы с названием професс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3179880" y="13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Е СОСТОЯНИЕ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4" descr=""/>
          <p:cNvPicPr/>
          <p:nvPr/>
        </p:nvPicPr>
        <p:blipFill>
          <a:blip r:embed="rId1"/>
          <a:stretch/>
        </p:blipFill>
        <p:spPr>
          <a:xfrm>
            <a:off x="542880" y="662040"/>
            <a:ext cx="5275440" cy="39560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"/>
          <p:cNvPicPr/>
          <p:nvPr/>
        </p:nvPicPr>
        <p:blipFill>
          <a:blip r:embed="rId2"/>
          <a:stretch/>
        </p:blipFill>
        <p:spPr>
          <a:xfrm>
            <a:off x="6043680" y="662040"/>
            <a:ext cx="527364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17600" y="4778280"/>
          <a:ext cx="11250360" cy="1951200"/>
        </p:xfrm>
        <a:graphic>
          <a:graphicData uri="http://schemas.openxmlformats.org/drawingml/2006/table">
            <a:tbl>
              <a:tblPr/>
              <a:tblGrid>
                <a:gridCol w="2923920"/>
                <a:gridCol w="8326440"/>
              </a:tblGrid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достижению целевых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упка  контейнеров, сбор необходимого количества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места для хранения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системы хранения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 Подбор и сортировка, карточек, схем по направлению деятельности (сценарист, декоратор, анима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системы визуализации и навиг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доски выбора, визуальных обозначений профессий (головные уборы с названием профессий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4506840" y="1084320"/>
            <a:ext cx="2978280" cy="397044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3048120" y="289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АЯ СИСТЕМА ВИЗУ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 rot="19386600">
            <a:off x="7656120" y="1944720"/>
            <a:ext cx="1062000" cy="612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3"/>
          <a:stretch/>
        </p:blipFill>
        <p:spPr>
          <a:xfrm rot="1131600">
            <a:off x="7654680" y="4788000"/>
            <a:ext cx="1069920" cy="6159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"/>
          <p:cNvPicPr/>
          <p:nvPr/>
        </p:nvPicPr>
        <p:blipFill>
          <a:blip r:embed="rId4"/>
          <a:stretch/>
        </p:blipFill>
        <p:spPr>
          <a:xfrm>
            <a:off x="8680320" y="1346040"/>
            <a:ext cx="2981520" cy="22370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7"/>
          <p:cNvSpPr/>
          <p:nvPr/>
        </p:nvSpPr>
        <p:spPr>
          <a:xfrm>
            <a:off x="8150400" y="826920"/>
            <a:ext cx="3877920" cy="419400"/>
          </a:xfrm>
          <a:prstGeom prst="rect">
            <a:avLst/>
          </a:prstGeom>
          <a:solidFill>
            <a:srgbClr val="ffff00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й цвет – зона декор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Рисунок 9" descr=""/>
          <p:cNvPicPr/>
          <p:nvPr/>
        </p:nvPicPr>
        <p:blipFill>
          <a:blip r:embed="rId5"/>
          <a:stretch/>
        </p:blipFill>
        <p:spPr>
          <a:xfrm>
            <a:off x="8796240" y="4524480"/>
            <a:ext cx="2981520" cy="22352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0"/>
          <p:cNvSpPr/>
          <p:nvPr/>
        </p:nvSpPr>
        <p:spPr>
          <a:xfrm>
            <a:off x="7964640" y="3976560"/>
            <a:ext cx="4146480" cy="420840"/>
          </a:xfrm>
          <a:prstGeom prst="rect">
            <a:avLst/>
          </a:prstGeom>
          <a:solidFill>
            <a:srgbClr val="ff9933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нжевый цвет – зона аним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7" descr=""/>
          <p:cNvPicPr/>
          <p:nvPr/>
        </p:nvPicPr>
        <p:blipFill>
          <a:blip r:embed="rId6"/>
          <a:stretch/>
        </p:blipFill>
        <p:spPr>
          <a:xfrm rot="12671400">
            <a:off x="3315960" y="1904760"/>
            <a:ext cx="996840" cy="574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 rot="9516600">
            <a:off x="3296880" y="4844520"/>
            <a:ext cx="1036800" cy="5986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5" descr=""/>
          <p:cNvPicPr/>
          <p:nvPr/>
        </p:nvPicPr>
        <p:blipFill>
          <a:blip r:embed="rId8"/>
          <a:stretch/>
        </p:blipFill>
        <p:spPr>
          <a:xfrm>
            <a:off x="374760" y="1325520"/>
            <a:ext cx="2981160" cy="2236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16"/>
          <p:cNvSpPr/>
          <p:nvPr/>
        </p:nvSpPr>
        <p:spPr>
          <a:xfrm>
            <a:off x="163440" y="826920"/>
            <a:ext cx="3878280" cy="419400"/>
          </a:xfrm>
          <a:prstGeom prst="rect">
            <a:avLst/>
          </a:prstGeom>
          <a:solidFill>
            <a:srgbClr val="92d050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цвет – зона сценари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Рисунок 18" descr=""/>
          <p:cNvPicPr/>
          <p:nvPr/>
        </p:nvPicPr>
        <p:blipFill>
          <a:blip r:embed="rId9"/>
          <a:stretch/>
        </p:blipFill>
        <p:spPr>
          <a:xfrm>
            <a:off x="374760" y="4524480"/>
            <a:ext cx="2987640" cy="223524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19"/>
          <p:cNvSpPr/>
          <p:nvPr/>
        </p:nvSpPr>
        <p:spPr>
          <a:xfrm>
            <a:off x="136440" y="3976560"/>
            <a:ext cx="4024440" cy="420840"/>
          </a:xfrm>
          <a:prstGeom prst="rect">
            <a:avLst/>
          </a:prstGeom>
          <a:solidFill>
            <a:srgbClr val="2fb0f1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цвет – зона актеров озву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Рисунок 8" descr=""/>
          <p:cNvPicPr/>
          <p:nvPr/>
        </p:nvPicPr>
        <p:blipFill>
          <a:blip r:embed="rId10"/>
          <a:stretch/>
        </p:blipFill>
        <p:spPr>
          <a:xfrm>
            <a:off x="4925880" y="5153040"/>
            <a:ext cx="2143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Заголовок 1"/>
          <p:cNvSpPr/>
          <p:nvPr/>
        </p:nvSpPr>
        <p:spPr>
          <a:xfrm>
            <a:off x="1095480" y="171360"/>
            <a:ext cx="10058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Е СОСТОЯНИЕ ПРОЦЕ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Рисунок 3" descr=""/>
          <p:cNvPicPr/>
          <p:nvPr/>
        </p:nvPicPr>
        <p:blipFill>
          <a:blip r:embed="rId1"/>
          <a:stretch/>
        </p:blipFill>
        <p:spPr>
          <a:xfrm>
            <a:off x="10069560" y="3121200"/>
            <a:ext cx="1776240" cy="23684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5" descr=""/>
          <p:cNvPicPr/>
          <p:nvPr/>
        </p:nvPicPr>
        <p:blipFill>
          <a:blip r:embed="rId2"/>
          <a:stretch/>
        </p:blipFill>
        <p:spPr>
          <a:xfrm>
            <a:off x="6357960" y="47772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9" descr=""/>
          <p:cNvPicPr/>
          <p:nvPr/>
        </p:nvPicPr>
        <p:blipFill>
          <a:blip r:embed="rId3"/>
          <a:stretch/>
        </p:blipFill>
        <p:spPr>
          <a:xfrm>
            <a:off x="9190080" y="477720"/>
            <a:ext cx="2660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21" name="Прямоугольник 10"/>
          <p:cNvGrpSpPr/>
          <p:nvPr/>
        </p:nvGrpSpPr>
        <p:grpSpPr>
          <a:xfrm>
            <a:off x="8126280" y="3243240"/>
            <a:ext cx="1785960" cy="2011320"/>
            <a:chOff x="8126280" y="3243240"/>
            <a:chExt cx="1785960" cy="2011320"/>
          </a:xfrm>
        </p:grpSpPr>
        <p:pic>
          <p:nvPicPr>
            <p:cNvPr id="422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8126280" y="3243240"/>
              <a:ext cx="17859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8131320" y="3251160"/>
              <a:ext cx="177624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глядный стенд «Как создается мультфильм» помогает ребенку ориентироваться в последовательности создания творческих продукт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404640" y="5514840"/>
          <a:ext cx="11382480" cy="1343160"/>
        </p:xfrm>
        <a:graphic>
          <a:graphicData uri="http://schemas.openxmlformats.org/drawingml/2006/table">
            <a:tbl>
              <a:tblPr/>
              <a:tblGrid>
                <a:gridCol w="1835280"/>
                <a:gridCol w="954720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ые результаты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ставлена картотека опорных схем наглядного моделирования идей будущего мультфиль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здана доска выбо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се контейнеры находятся в свободном доступе для де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а удобная система визу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оздание визуальных обозначений профессий (головные уборы с названием професси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5" name="Рисунок 13" descr=""/>
          <p:cNvPicPr/>
          <p:nvPr/>
        </p:nvPicPr>
        <p:blipFill>
          <a:blip r:embed="rId5"/>
          <a:stretch/>
        </p:blipFill>
        <p:spPr>
          <a:xfrm>
            <a:off x="2619360" y="3552840"/>
            <a:ext cx="2313000" cy="17319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5" descr=""/>
          <p:cNvPicPr/>
          <p:nvPr/>
        </p:nvPicPr>
        <p:blipFill>
          <a:blip r:embed="rId6"/>
          <a:stretch/>
        </p:blipFill>
        <p:spPr>
          <a:xfrm>
            <a:off x="341280" y="477720"/>
            <a:ext cx="2666880" cy="19954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1" descr=""/>
          <p:cNvPicPr/>
          <p:nvPr/>
        </p:nvPicPr>
        <p:blipFill>
          <a:blip r:embed="rId7"/>
          <a:stretch/>
        </p:blipFill>
        <p:spPr>
          <a:xfrm>
            <a:off x="3166920" y="452520"/>
            <a:ext cx="266724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28" name="Прямоугольник 22"/>
          <p:cNvGrpSpPr/>
          <p:nvPr/>
        </p:nvGrpSpPr>
        <p:grpSpPr>
          <a:xfrm>
            <a:off x="774720" y="2567160"/>
            <a:ext cx="4924440" cy="871200"/>
            <a:chOff x="774720" y="2567160"/>
            <a:chExt cx="4924440" cy="871200"/>
          </a:xfrm>
        </p:grpSpPr>
        <p:pic>
          <p:nvPicPr>
            <p:cNvPr id="429" name="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774720" y="2567160"/>
              <a:ext cx="492444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82640" y="2573280"/>
              <a:ext cx="4908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тимизация и визуализация хранения 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точек, схем, кукол по направлению деятельности (сценарист, декоратор, аниматор) 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воляет без дополнительных потерь времени найти необходимое оборудование для создания творческих продуктов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Прямоугольник 23"/>
          <p:cNvGrpSpPr/>
          <p:nvPr/>
        </p:nvGrpSpPr>
        <p:grpSpPr>
          <a:xfrm>
            <a:off x="334800" y="3548160"/>
            <a:ext cx="1994040" cy="1712880"/>
            <a:chOff x="334800" y="3548160"/>
            <a:chExt cx="1994040" cy="1712880"/>
          </a:xfrm>
        </p:grpSpPr>
        <p:pic>
          <p:nvPicPr>
            <p:cNvPr id="432" name="Прямоугольник 23" descr=""/>
            <p:cNvPicPr/>
            <p:nvPr/>
          </p:nvPicPr>
          <p:blipFill>
            <a:blip r:embed="rId9"/>
            <a:stretch/>
          </p:blipFill>
          <p:spPr>
            <a:xfrm>
              <a:off x="334800" y="3548160"/>
              <a:ext cx="199404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41280" y="3552840"/>
              <a:ext cx="198108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тизированная картотека опорных схем с применением системы визуализации позволяет быстро придумать сюжеты будущих мультфильм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Прямоугольник 24"/>
          <p:cNvGrpSpPr/>
          <p:nvPr/>
        </p:nvGrpSpPr>
        <p:grpSpPr>
          <a:xfrm>
            <a:off x="6351480" y="2560680"/>
            <a:ext cx="5065920" cy="431640"/>
            <a:chOff x="6351480" y="2560680"/>
            <a:chExt cx="5065920" cy="431640"/>
          </a:xfrm>
        </p:grpSpPr>
        <p:pic>
          <p:nvPicPr>
            <p:cNvPr id="435" name="Прямоугольник 24" descr=""/>
            <p:cNvPicPr/>
            <p:nvPr/>
          </p:nvPicPr>
          <p:blipFill>
            <a:blip r:embed="rId10"/>
            <a:stretch/>
          </p:blipFill>
          <p:spPr>
            <a:xfrm>
              <a:off x="6351480" y="2560680"/>
              <a:ext cx="50659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357960" y="2563920"/>
              <a:ext cx="5051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ветовая система визуализации позволяет ребенку быстро ориентироваться в пространстве кабинета педагога-психолог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Рисунок 4" descr=""/>
          <p:cNvPicPr/>
          <p:nvPr/>
        </p:nvPicPr>
        <p:blipFill>
          <a:blip r:embed="rId11"/>
          <a:stretch/>
        </p:blipFill>
        <p:spPr>
          <a:xfrm>
            <a:off x="5140440" y="3535200"/>
            <a:ext cx="23130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1T12:20:15Z</dcterms:created>
  <dc:creator>Александра Ромашкина</dc:creator>
  <dc:description/>
  <dc:language>en-US</dc:language>
  <cp:lastModifiedBy>Александра Ромашкина</cp:lastModifiedBy>
  <dcterms:modified xsi:type="dcterms:W3CDTF">2022-11-14T06:41:10Z</dcterms:modified>
  <cp:revision>6</cp:revision>
  <dc:subject/>
  <dc:title>Презентация PowerPoint</dc:title>
</cp:coreProperties>
</file>